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E50-C90F-448F-BF5E-C106BEC0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35C-A0C4-4205-BB99-2C6A6B6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6A0-E731-415B-A878-C6FEFFFD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4AB-C7C7-4BA0-826C-765E6F6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33A-24DA-41C5-B1C9-D4952F5B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A0-7B2E-4932-ADD6-EC8D4F4A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01D-8AB3-4EE5-B51E-AC7470E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24A-30C8-47CE-8176-E8E2F92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A97-9CFB-423C-A033-F32CC7D3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1AF-75FE-4ADE-AE81-5A73725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519-8EF8-453C-B355-B785369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549-B0A2-4FD5-A0E1-0F90D3B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2523-B15A-499D-A708-83B6693EB15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-685800"/>
            <a:ext cx="89154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 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1523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720" y="-76320"/>
            <a:ext cx="815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به يا بني  بالمس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ايمانك اوعا تز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مشي عا الدرب الصح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ل ع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0720" y="9684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ارك يا بني بجماعة 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راع الكلمة بشجاع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خدوم الإخوة بوداع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720" y="-1219320"/>
            <a:ext cx="815364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ارك يا بني بالأسرار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إيمانك لا تحت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قرا إنجيلك بإستمر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1:47:49Z</dcterms:created>
  <dc:creator>user</dc:creator>
  <dc:description/>
  <dc:language>en-US</dc:language>
  <cp:lastModifiedBy>user</cp:lastModifiedBy>
  <dcterms:modified xsi:type="dcterms:W3CDTF">2006-05-12T05:39:00Z</dcterms:modified>
  <cp:revision>9</cp:revision>
  <dc:subject/>
  <dc:title>Slide 1</dc:title>
</cp:coreProperties>
</file>